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9C5A-CBDD-4E15-852F-835D1458E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dnhm.org/exhibits/dogs/facts.html" TargetMode="External"/><Relationship Id="rId2" Type="http://schemas.openxmlformats.org/officeDocument/2006/relationships/hyperlink" Target="http://www.sdnhm.org/exhibits/dogs/facts.html" TargetMode="External"/><Relationship Id="rId3" Type="http://schemas.openxmlformats.org/officeDocument/2006/relationships/hyperlink" Target="http://www.sdnhm.org/exhibits/dogs/facts.html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sanat.bilkent.edu.tr/imot/neolithic/RMO52-27.html" TargetMode="External"/><Relationship Id="rId2" Type="http://schemas.openxmlformats.org/officeDocument/2006/relationships/hyperlink" Target="http://sanat.bilkent.edu.tr/imot/neolithic/RMO52-27.html" TargetMode="External"/><Relationship Id="rId3" Type="http://schemas.openxmlformats.org/officeDocument/2006/relationships/slide" Target="../slides/slide16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://www.bobmay.info/may132003jericho.htm" TargetMode="External"/><Relationship Id="rId2" Type="http://schemas.openxmlformats.org/officeDocument/2006/relationships/hyperlink" Target="http://www.bobmay.info/may132003jericho.htm" TargetMode="External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bbc.co.uk/science/cavemen/chronology/contentpage1.shtml" TargetMode="External"/><Relationship Id="rId2" Type="http://schemas.openxmlformats.org/officeDocument/2006/relationships/hyperlink" Target="http://www.bbc.co.uk/science/cavemen/chronology/contentpage1.shtml" TargetMode="External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fian burial w/dog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dnhm.org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exhibits/ dogs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acts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nat.bilkent.edu.tr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 imot/neolithic/RMO52-27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of jericho walls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obmay.info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 may132003jericho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of Lucy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bbc.co.uk/.../ chronology/contentpage1.s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nstruction of Lucy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bc.co.uk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.../ chronology/contentpage1.s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E84-2D4E-4DDF-848B-DDEB7180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0E0-ED15-4EE9-B595-1006FCBC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52B-3BC5-4DF2-95E4-266E52E4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8B3-1E72-42CD-9DF4-43F83398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3EF8-363F-450E-9B94-B54D67AF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29B3-B159-4338-8210-0CC08472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5739-9183-4C4B-8609-662D6532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333F-D9A1-4C97-9B33-7E593E08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9B5-DF55-4750-82CA-598C097A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1048-43BE-4CDF-AAE6-CD2461EA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6B1E-F7A5-4674-8FA0-1F614CC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698-B5D2-46FD-B436-3059E57A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E2B8-36BC-4569-B9E4-C688AF29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9A8A-55B1-484F-B901-D62B4120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2625-D754-4CBF-A0C4-BA38E910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7CA4-CA62-4513-88D2-F23160A2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AE33-F344-4312-B0B3-F7BC86F5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771-ABD7-4481-875B-416D4D66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0A9-535C-4351-8D2C-5696755A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2AB-1C90-4D80-B90A-BBD00C50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321-7876-444D-AA2B-BB6AD7FA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C9C-E75C-45D1-933D-B3E6BF5C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466-201B-46B1-8A99-212DE3F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D92-D9CC-4931-9F1B-A1DF4274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4F25-3E6F-48E2-948C-C2D13098E28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5FD0-13F6-44A0-AFB1-C12BAFD75A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Presentation Mate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nstructor’s Online Learn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s and Encount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Global Perspective on the Pa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7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d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dit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ry H. Bentle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bert F. Zieg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Point Presentations Prepared by Henry Abrams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066" t="-10309" r="61339" b="0"/>
          <a:stretch/>
        </p:blipFill>
        <p:spPr>
          <a:xfrm>
            <a:off x="4419720" y="4876920"/>
            <a:ext cx="474480" cy="50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CA3-FDD9-40C2-9F08-AB70EEF6408B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olithic Era (“Old Stone Age”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idenc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fi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polation from modern hunter-gatherer socie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adic existence precludes advanced civil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 of 3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 of labor along gender 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866-2257-4D63-8CF4-35516FEB47A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lative Social Equali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adic culture precludes accumulation of land-based weal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likely determinants of status: age, hunting skill, fertility, charis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ble gender equality related to food prod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: protein from hun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men: plant geth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51B-435F-4829-AA11-14CDA1D0746C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ig Game Hunti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idence of intelligent coordination of hunting expedi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weapon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l-skin disgui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mpeding tac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ing of fires, etc. to drive game into kill z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planning, commun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05A-2473-4926-A697-C01D7E1E794E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olithic Settlement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fian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 Israel and Jord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d wheat, her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mon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d buckwheat, fish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ook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fic Northw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ries, acorns, salmon ru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s of 1000 or mo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24D-BF47-4AC5-9E13-26853237F79D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andertal Peopl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ander valley, western Germa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found in Africa, east A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idence of spirituality: ritual bu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C84-7F2F-44A7-AE4B-DDF29D8EF02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-magnon Peopl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ly similar to modern hum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capacity for speech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 sapie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variety of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rnments, decorative furniture, cave paint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us” figur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 paint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D72-6B7D-41CD-B641-C6BD756FA624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lithic Era (“New Stone Age”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ction in tool produ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pped vs. polish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: herding animals rather than hunting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men: nurtured vegetation rather than forag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ead of Agricultur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ash-and-and burn techniq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haustion of soil promotes mig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of crops from one region to anoth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A3B-D08B-40C1-9F82-73675F39440D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Origins of early spread of agricul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408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40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B13-FCC5-45CE-A0EA-23C23367B13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riculture and Population Growth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3680" y="1600200"/>
          <a:ext cx="82152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115-432E-42F3-BA30-59D319335A30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plus Food and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pecialization of Labo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ergence of villages and tow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ies at Çatal Hüyük, Turkey, occupied 7250-5400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mendous range of manufactured produ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tery, Jewelry, Textiles, Copper to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craf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C22-E351-439A-A8F1-4B10FCAF8C18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1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Histor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260280" y="0"/>
            <a:ext cx="966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BAB2-33AE-471A-BBFC-ECF5CC5CAEB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Distinc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umulation of landed wealth initiates development of social cla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evidence in variety of household decorations, goods buried with deceased members of society at Çatal Hüyü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C75-4B71-4000-9294-5C33E8D786E7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ligious Valu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s of natural environment essential for functio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evidence of religious worship: thousands of clay figurines, drawings on pots, tool decorations, other ritual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rtility: Venus figur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D96-826D-4BBF-9B0E-AC9E69B70225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nings of Urban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icho: concentration of wealth, building a w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ft special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stratif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work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D5E-19CE-4CA2-84E2-22182FB06F51}" type="slidenum">
              <a:t>2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ing the Complex Socie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developmen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nting and Forag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ricul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ssue: surplus capi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development of first complex societies 3500 BCE – 500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A09C-8449-407F-B3CE-70FF43A9B0A3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histo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“history”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ten reco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discov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site human presence (or “natural” histor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288-4994-4436-BC95-05A26B45A79D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Hominid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ls adapt themselves to enviro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inids adapt environment to themsel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to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x cooperative social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873-29F2-4542-8A09-729C2C169FE1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tralopithecu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very of skeleton AL-288-1, north of Addis Ababa, Ethiop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cknamed “Lucy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 of SWF, 4’6”, 55lb., bipedal Brain 500 cc (modern human: 1400 cc), limited speech but opposable dig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imated date of death: 3.5 million years a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1B5-2212-4AAA-9BD1-921EB20667A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 Hominid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Erectu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“upright ma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r brain capacity (1000 cc), improved tool use, control of fi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“wise man”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 Sapien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“very wise man” (most of u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brain, esp. frontal reg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ophisticated tools and social organ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grations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Erectu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2CD-AD63-4FF9-9EE0-0A736F967733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lobal spread of hominids and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Homo Sapien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038480" cy="408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038480" cy="409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C64-AFB7-48B1-A0C5-03307261E3D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Natural Environmen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13,000 BC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 sapien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every inhabitable part of the wor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aeological find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to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ppers, scrapers, axes, knives, bows, arrow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e and hutlike dwell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fire, animal sk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nted several mammal species to extin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mactic change may have accelerated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374-C3D1-438D-AB7D-A4275E4748AF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7:06:25Z</dcterms:created>
  <dc:creator>HABRAMSO</dc:creator>
  <dc:description/>
  <dc:language>en-US</dc:language>
  <cp:lastModifiedBy>ripkensa</cp:lastModifiedBy>
  <dcterms:modified xsi:type="dcterms:W3CDTF">2009-11-30T12:01:53Z</dcterms:modified>
  <cp:revision>33</cp:revision>
  <dc:subject/>
  <dc:title>Slide 1</dc:title>
</cp:coreProperties>
</file>